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6F8-C012-4783-9AB8-F7A42CC0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747-3771-4DBD-9E33-2752FA87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29B3-955D-451C-B8D0-ACCEE9E1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FD36-DDBF-425D-BA59-BC6592FD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DA51-5E92-4FB8-BF36-5F043D89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82F-15DA-439C-9559-BB08F8F7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7A4C-9639-4CAF-AD1A-B837D634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B5E-4FAB-476A-BCCB-40F53AB1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CFA8-A07E-43B6-B1D5-75CBBE7A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FA3-F8A5-4058-8AD6-3D388303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175-B54E-47A2-A292-04457A7C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0F81-4A61-483F-8FC2-9EADCA0B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10CE-FC8A-47C7-B943-DFA21AC5A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ogger.com/start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ing what you’ve learned to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7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 “Loo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19112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562720" y="1676520"/>
            <a:ext cx="29718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template for your b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determines the color scheme and font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easily change this later if you don’t like your initial selec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you’ve selected a look and feel for your blog, click the orange “Continue” a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657240" y="4724280"/>
            <a:ext cx="2057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63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ratulations!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Are Now a Blogg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64832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791320" y="1752480"/>
            <a:ext cx="2895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you are a blogg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orange arrow that invites you to start blogging, go to your blog, and start writ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962160" y="2819520"/>
            <a:ext cx="1904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178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Wr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 time when you learned a valuable new lesson or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bout an important day in your car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how you learned new information and sorted it all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some things that you wish you would have known years a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685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st Important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 the information and knowledge learned by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 the organization’s past in order to ensure our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participating in the organization’s Knowledge Management progr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936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nal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course, we’ve discussed the importance of sharing knowledge within our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ools that is used in order to collect knowledge and information in order to share it is a “blog”—you will be creating one as your final cours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32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B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log is short for a Web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n-line journal used to record your own lessons learned and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ol used to share information across a community of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og is whatever you want it to 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75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B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s are search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thoughts and ideas can be logged without concerns for order, format, or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s are already in wide use throughout our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07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to beg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create a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logger.com/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71600" y="2971800"/>
            <a:ext cx="4343400" cy="3473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477120" y="327672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get a screen like this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orange button that says “Create A Blog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495320" y="4495320"/>
            <a:ext cx="1752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668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low th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581280" cy="4148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19720" y="1981080"/>
            <a:ext cx="38098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me you want to have displayed on your blog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 to the legal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at you are not malicious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Continu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H="1">
            <a:off x="2971800" y="51814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8422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y Your Ac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533376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629400" y="1905120"/>
            <a:ext cx="2133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 cellphone number to get a text message that will allow your to confirm this new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>
            <a:off x="2590920" y="2362320"/>
            <a:ext cx="41148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717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 Your Confirm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0988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105520" y="19051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Confirmation Code you just received via text message and click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447560" y="2590920"/>
            <a:ext cx="37335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27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Your B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80988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486400" y="1905120"/>
            <a:ext cx="31240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your blog (Jphn’s journal, for exam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URL where your blog can be found (use the default set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e information and val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Continue” when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>
            <a:off x="3580920" y="449568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4799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0:03:56Z</dcterms:created>
  <dc:creator>Anne Brooker-Grogan</dc:creator>
  <dc:description/>
  <dc:language>en-US</dc:language>
  <cp:lastModifiedBy>Anne Brooker-Grogan</cp:lastModifiedBy>
  <dcterms:modified xsi:type="dcterms:W3CDTF">2010-02-01T04:50:07Z</dcterms:modified>
  <cp:revision>8</cp:revision>
  <dc:subject/>
  <dc:title>Knowledge Management</dc:title>
</cp:coreProperties>
</file>